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05B8B-45F8-46B8-A7A6-CB2322DC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27D4-8873-4732-9937-551B5275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8F647-3185-4315-9051-5736CB71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016E-96A3-4477-A7E8-4401DB59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4F3E-DCFE-457C-A78B-C99EEA2A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4A24-208C-4558-9C60-B67D86F1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74A2-D5D2-4B21-8847-18BE0C63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D7E5-8C95-4420-9F6E-EB4BC111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D2F1-8BB0-4A97-A2C8-2A593C79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F5C1-A0D1-4764-B36E-C810A098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D1FB-3BC9-467F-B4D3-026C8D7D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53C9-99A9-4C10-9047-F2FE968F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C964-7BF1-4FEF-A6C5-14D66548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5926-BB0E-458C-BA98-A9A87C0E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E8F0-D04D-4EE5-88BA-411F6979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3458-FD02-4DAA-B68C-BC686B89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66C3-EB94-4BCD-AA67-D329DA30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23EAE-0061-4668-9499-C2E0318F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E5A8-45CD-406C-85A0-D7A87234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8FBF6-0328-4EC9-AC51-2089ED20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4475-9697-411B-8071-8A04E168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EC67-A51B-429C-9B18-3F64BF42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8837F-A8D1-4FAB-8085-1991CA38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84291-6F41-4E73-85D6-372194EE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A27E-6D08-46D4-86FD-C75918A12679}" type="slidenum">
              <a:rPr b="0" lang="vi-V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4006-F20B-4456-AF38-28B103B403D1}" type="slidenum">
              <a:rPr b="0" lang="vi-V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198072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ras Demi ITC"/>
              </a:rPr>
              <a:t>PHÂN TÍCH DIỄN NGÔN CÁC YẾU TỐ CHUYỂN TIẾP TRONG BÀI GIẢNG BẰNG TIẾNG ANH CỦA TÀI LIỆU TOEFL i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0036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Eras Demi ITC"/>
              </a:rPr>
              <a:t>SVTH          :</a:t>
            </a:r>
            <a:r>
              <a:rPr b="1" lang="en-US" sz="2800" spc="-1" strike="noStrike">
                <a:solidFill>
                  <a:srgbClr val="00007d"/>
                </a:solidFill>
                <a:latin typeface="Eras Demi ITC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Eras Demi ITC"/>
              </a:rPr>
              <a:t>Nguyễn Thị Vi V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0036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Eras Demi ITC"/>
              </a:rPr>
              <a:t>Lớp             :</a:t>
            </a:r>
            <a:r>
              <a:rPr b="1" lang="en-US" sz="2800" spc="-1" strike="noStrike">
                <a:solidFill>
                  <a:srgbClr val="00007d"/>
                </a:solidFill>
                <a:latin typeface="Eras Demi ITC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Eras Demi ITC"/>
              </a:rPr>
              <a:t>07cna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0036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Eras Demi ITC"/>
              </a:rPr>
              <a:t>GVHD</a:t>
            </a:r>
            <a:r>
              <a:rPr b="1" lang="en-US" sz="2800" spc="-1" strike="noStrike">
                <a:solidFill>
                  <a:srgbClr val="00007d"/>
                </a:solidFill>
                <a:latin typeface="Eras Demi ITC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Eras Demi ITC"/>
              </a:rPr>
              <a:t>:</a:t>
            </a:r>
            <a:r>
              <a:rPr b="1" lang="en-US" sz="2800" spc="-1" strike="noStrike">
                <a:solidFill>
                  <a:srgbClr val="00007d"/>
                </a:solidFill>
                <a:latin typeface="Eras Demi ITC"/>
              </a:rPr>
              <a:t>	</a:t>
            </a:r>
            <a:r>
              <a:rPr b="1" lang="en-US" sz="2800" spc="-1" strike="noStrike">
                <a:solidFill>
                  <a:srgbClr val="00007d"/>
                </a:solidFill>
                <a:latin typeface="Eras Demi ITC"/>
              </a:rPr>
              <a:t>Ngũ Thiện Hùng,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85800" y="152280"/>
            <a:ext cx="845820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ĐẠI HỌC ĐÀ NẴNG</a:t>
            </a:r>
            <a:endParaRPr b="0" lang="en-US" sz="2000" spc="-1" strike="noStrike">
              <a:solidFill>
                <a:srgbClr val="000000"/>
              </a:solidFill>
              <a:latin typeface="DotumChe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ƯỜNG ĐẠI HỌC NGOẠI NGỮ</a:t>
            </a:r>
            <a:endParaRPr b="0" lang="en-US" sz="2000" spc="-1" strike="noStrike">
              <a:solidFill>
                <a:srgbClr val="000000"/>
              </a:solidFill>
              <a:latin typeface="DotumChe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ĐỀ TÀI NGHIÊN CỨU KHOA HỌC</a:t>
            </a:r>
            <a:endParaRPr b="0" lang="en-US" sz="2400" spc="-1" strike="noStrike">
              <a:solidFill>
                <a:srgbClr val="000000"/>
              </a:solidFill>
              <a:latin typeface="DotumCh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Eras Demi ITC"/>
              </a:rPr>
              <a:t>TỔNG QUAN</a:t>
            </a:r>
            <a:r>
              <a:rPr b="0" lang="vi-VN" sz="3200" spc="-1" strike="noStrike">
                <a:solidFill>
                  <a:srgbClr val="00007d"/>
                </a:solidFill>
                <a:latin typeface="Eras Demi ITC"/>
              </a:rPr>
              <a:t> NGHIÊN CỨ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7d"/>
                </a:solidFill>
                <a:latin typeface="Eras Demi ITC"/>
              </a:rPr>
              <a:t>Fanton</a:t>
            </a:r>
            <a:r>
              <a:rPr b="0" lang="en-US" sz="3200" spc="-1" strike="noStrike">
                <a:solidFill>
                  <a:srgbClr val="00007d"/>
                </a:solidFill>
                <a:latin typeface="Eras Demi ITC"/>
              </a:rPr>
              <a:t> (2002): Transition Expressions and Phrases used to Academic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Eras Demi ITC"/>
              </a:rPr>
              <a:t>Pierce and Kinsell (2009): Cracking TOEFL i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Eras Demi ITC"/>
              </a:rPr>
              <a:t>Harris (2010): Transition Expressions and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Eras Demi ITC"/>
              </a:rPr>
              <a:t>CƠ SỞ LÝ THUYẾ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533520" y="1905120"/>
            <a:ext cx="8076240" cy="1066320"/>
            <a:chOff x="533520" y="1905120"/>
            <a:chExt cx="8076240" cy="1066320"/>
          </a:xfrm>
        </p:grpSpPr>
        <p:sp>
          <p:nvSpPr>
            <p:cNvPr id="176" name="AutoShape 5"/>
            <p:cNvSpPr/>
            <p:nvPr/>
          </p:nvSpPr>
          <p:spPr>
            <a:xfrm>
              <a:off x="1184400" y="2090160"/>
              <a:ext cx="7425360" cy="710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533520" y="1905120"/>
              <a:ext cx="1172160" cy="1066320"/>
            </a:xfrm>
            <a:prstGeom prst="diamond">
              <a:avLst/>
            </a:prstGeom>
            <a:solidFill>
              <a:srgbClr val="ff99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1575360" y="2176560"/>
              <a:ext cx="5862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919800" y="205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DotumChe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609480" y="2971800"/>
            <a:ext cx="7992360" cy="990360"/>
            <a:chOff x="609480" y="2971800"/>
            <a:chExt cx="7992360" cy="990360"/>
          </a:xfrm>
        </p:grpSpPr>
        <p:sp>
          <p:nvSpPr>
            <p:cNvPr id="181" name="AutoShape 10"/>
            <p:cNvSpPr/>
            <p:nvPr/>
          </p:nvSpPr>
          <p:spPr>
            <a:xfrm>
              <a:off x="1253520" y="3143880"/>
              <a:ext cx="7348320" cy="6602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609480" y="2971800"/>
              <a:ext cx="1159920" cy="990360"/>
            </a:xfrm>
            <a:prstGeom prst="diamond">
              <a:avLst/>
            </a:prstGeom>
            <a:solidFill>
              <a:srgbClr val="99cc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640520" y="3223800"/>
              <a:ext cx="5801040" cy="366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992880" y="3114000"/>
              <a:ext cx="34992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DotumChe"/>
              </a:endParaRPr>
            </a:p>
          </p:txBody>
        </p:sp>
      </p:grpSp>
      <p:grpSp>
        <p:nvGrpSpPr>
          <p:cNvPr id="185" name="Group 14"/>
          <p:cNvGrpSpPr/>
          <p:nvPr/>
        </p:nvGrpSpPr>
        <p:grpSpPr>
          <a:xfrm>
            <a:off x="609480" y="3962520"/>
            <a:ext cx="7992360" cy="1061640"/>
            <a:chOff x="609480" y="3962520"/>
            <a:chExt cx="7992360" cy="1061640"/>
          </a:xfrm>
        </p:grpSpPr>
        <p:sp>
          <p:nvSpPr>
            <p:cNvPr id="186" name="AutoShape 15"/>
            <p:cNvSpPr/>
            <p:nvPr/>
          </p:nvSpPr>
          <p:spPr>
            <a:xfrm>
              <a:off x="1253520" y="4146840"/>
              <a:ext cx="7348320" cy="7077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609480" y="3962520"/>
              <a:ext cx="1159920" cy="1061640"/>
            </a:xfrm>
            <a:prstGeom prst="diamond">
              <a:avLst/>
            </a:prstGeom>
            <a:solidFill>
              <a:srgbClr val="00ff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88" name="Text Box 17"/>
            <p:cNvSpPr/>
            <p:nvPr/>
          </p:nvSpPr>
          <p:spPr>
            <a:xfrm>
              <a:off x="1640520" y="4232520"/>
              <a:ext cx="5801040" cy="366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870120" y="4115160"/>
              <a:ext cx="598680" cy="459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DotumChe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685800" y="5029200"/>
            <a:ext cx="7908480" cy="1053720"/>
            <a:chOff x="685800" y="5029200"/>
            <a:chExt cx="7908480" cy="1053720"/>
          </a:xfrm>
        </p:grpSpPr>
        <p:sp>
          <p:nvSpPr>
            <p:cNvPr id="191" name="AutoShape 20"/>
            <p:cNvSpPr/>
            <p:nvPr/>
          </p:nvSpPr>
          <p:spPr>
            <a:xfrm>
              <a:off x="1323360" y="5212080"/>
              <a:ext cx="7270920" cy="70236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685800" y="5029200"/>
              <a:ext cx="1148040" cy="1053720"/>
            </a:xfrm>
            <a:prstGeom prst="diamond">
              <a:avLst/>
            </a:prstGeom>
            <a:solidFill>
              <a:srgbClr val="cccce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93" name="Text Box 22"/>
            <p:cNvSpPr/>
            <p:nvPr/>
          </p:nvSpPr>
          <p:spPr>
            <a:xfrm>
              <a:off x="1706040" y="5297400"/>
              <a:ext cx="574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194" name="Text Box 23"/>
            <p:cNvSpPr/>
            <p:nvPr/>
          </p:nvSpPr>
          <p:spPr>
            <a:xfrm>
              <a:off x="1060200" y="518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DotumChe"/>
              </a:endParaRPr>
            </a:p>
          </p:txBody>
        </p:sp>
      </p:grpSp>
      <p:sp>
        <p:nvSpPr>
          <p:cNvPr id="195" name="Text Box 24"/>
          <p:cNvSpPr/>
          <p:nvPr/>
        </p:nvSpPr>
        <p:spPr>
          <a:xfrm>
            <a:off x="1754280" y="220968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Demi ITC"/>
              </a:rPr>
              <a:t>PHÂN TÍCH DIỄN NGÔN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1676520" y="3200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Demi ITC"/>
              </a:rPr>
              <a:t>YẾU TỐ CHUYỂN TIẾP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1830240" y="426708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Eras Demi ITC"/>
              </a:rPr>
              <a:t>BÀI GIẢNG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1828800" y="5257800"/>
            <a:ext cx="68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Demi ITC"/>
              </a:rPr>
              <a:t>SỰ KẾT NỐI &amp; TÍNH MẠCH LẠC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Eras Demi ITC"/>
              </a:rPr>
              <a:t>PHƯƠNG PHÁP NGHIÊN C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2971800" y="4419720"/>
            <a:ext cx="5791320" cy="1981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2895480" y="5029200"/>
            <a:ext cx="25884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0" y="3657600"/>
            <a:ext cx="2971800" cy="762120"/>
          </a:xfrm>
          <a:prstGeom prst="roundRect">
            <a:avLst>
              <a:gd name="adj" fmla="val 4690"/>
            </a:avLst>
          </a:prstGeom>
          <a:noFill/>
          <a:ln w="572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7d"/>
                </a:solidFill>
                <a:latin typeface="Eras Demi ITC"/>
              </a:rPr>
              <a:t>Phương pháp nghiên cứu</a:t>
            </a:r>
            <a:endParaRPr b="0" lang="en-US" sz="26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2971800" y="1905120"/>
            <a:ext cx="5791320" cy="205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05" name="Oval 12"/>
          <p:cNvSpPr/>
          <p:nvPr/>
        </p:nvSpPr>
        <p:spPr>
          <a:xfrm>
            <a:off x="2895480" y="2819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06" name="Line 13"/>
          <p:cNvSpPr/>
          <p:nvPr/>
        </p:nvSpPr>
        <p:spPr>
          <a:xfrm flipH="1">
            <a:off x="2666520" y="289548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2666880" y="289548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2666880" y="441972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2666880" y="510552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3124080" y="4495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Tiến trình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3200400" y="1981080"/>
            <a:ext cx="5334120" cy="20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Phương pháp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Mô tả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Định tính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otumCh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Eras Demi ITC"/>
              </a:rPr>
              <a:t>THAO TÁC NGHIÊN CỨ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80880" y="1828800"/>
            <a:ext cx="2742480" cy="4035600"/>
            <a:chOff x="380880" y="1828800"/>
            <a:chExt cx="2742480" cy="4035600"/>
          </a:xfrm>
        </p:grpSpPr>
        <p:sp>
          <p:nvSpPr>
            <p:cNvPr id="215" name="AutoShape 5"/>
            <p:cNvSpPr/>
            <p:nvPr/>
          </p:nvSpPr>
          <p:spPr>
            <a:xfrm>
              <a:off x="380880" y="2136600"/>
              <a:ext cx="2734560" cy="2857680"/>
            </a:xfrm>
            <a:custGeom>
              <a:avLst/>
              <a:gdLst>
                <a:gd name="textAreaLeft" fmla="*/ 140040 w 2734560"/>
                <a:gd name="textAreaRight" fmla="*/ 2594520 w 273456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72">
                  <a:moveTo>
                    <a:pt x="3782" y="0"/>
                  </a:moveTo>
                  <a:arcTo wR="3782" hR="3782" stAng="16200000" swAng="-5400000"/>
                  <a:lnTo>
                    <a:pt x="0" y="18790"/>
                  </a:lnTo>
                  <a:arcTo wR="3782" hR="3782" stAng="10800000" swAng="-5400000"/>
                  <a:lnTo>
                    <a:pt x="17818" y="2257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16" name="AutoShape 6"/>
            <p:cNvSpPr/>
            <p:nvPr/>
          </p:nvSpPr>
          <p:spPr>
            <a:xfrm>
              <a:off x="423000" y="2144880"/>
              <a:ext cx="2652480" cy="2803320"/>
            </a:xfrm>
            <a:custGeom>
              <a:avLst/>
              <a:gdLst>
                <a:gd name="textAreaLeft" fmla="*/ 129240 w 2652480"/>
                <a:gd name="textAreaRight" fmla="*/ 2523240 w 2652480"/>
                <a:gd name="textAreaTop" fmla="*/ 129240 h 2803320"/>
                <a:gd name="textAreaBottom" fmla="*/ 2674080 h 2803320"/>
              </a:gdLst>
              <a:ahLst/>
              <a:rect l="textAreaLeft" t="textAreaTop" r="textAreaRight" b="textAreaBottom"/>
              <a:pathLst>
                <a:path w="21600" h="22828">
                  <a:moveTo>
                    <a:pt x="3600" y="0"/>
                  </a:moveTo>
                  <a:arcTo wR="3600" hR="3600" stAng="16200000" swAng="-5400000"/>
                  <a:lnTo>
                    <a:pt x="0" y="19228"/>
                  </a:lnTo>
                  <a:arcTo wR="3600" hR="3600" stAng="10800000" swAng="-5400000"/>
                  <a:lnTo>
                    <a:pt x="18000" y="228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>
              <a:off x="444960" y="4208400"/>
              <a:ext cx="261648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>
              <a:off x="444960" y="2166840"/>
              <a:ext cx="26164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19" name="AutoShape 9"/>
            <p:cNvSpPr/>
            <p:nvPr/>
          </p:nvSpPr>
          <p:spPr>
            <a:xfrm>
              <a:off x="38880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20" name="AutoShape 10"/>
            <p:cNvSpPr/>
            <p:nvPr/>
          </p:nvSpPr>
          <p:spPr>
            <a:xfrm>
              <a:off x="44496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grpSp>
          <p:nvGrpSpPr>
            <p:cNvPr id="221" name="Group 11"/>
            <p:cNvGrpSpPr/>
            <p:nvPr/>
          </p:nvGrpSpPr>
          <p:grpSpPr>
            <a:xfrm>
              <a:off x="1321920" y="1828800"/>
              <a:ext cx="812520" cy="642960"/>
              <a:chOff x="1321920" y="1828800"/>
              <a:chExt cx="812520" cy="642960"/>
            </a:xfrm>
          </p:grpSpPr>
          <p:sp>
            <p:nvSpPr>
              <p:cNvPr id="222" name="Oval 12"/>
              <p:cNvSpPr/>
              <p:nvPr/>
            </p:nvSpPr>
            <p:spPr>
              <a:xfrm>
                <a:off x="13219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223" name="Oval 13"/>
              <p:cNvSpPr/>
              <p:nvPr/>
            </p:nvSpPr>
            <p:spPr>
              <a:xfrm>
                <a:off x="13302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224" name="Oval 14"/>
              <p:cNvSpPr/>
              <p:nvPr/>
            </p:nvSpPr>
            <p:spPr>
              <a:xfrm>
                <a:off x="13399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225" name="Oval 15"/>
              <p:cNvSpPr/>
              <p:nvPr/>
            </p:nvSpPr>
            <p:spPr>
              <a:xfrm>
                <a:off x="13485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226" name="Oval 16"/>
              <p:cNvSpPr/>
              <p:nvPr/>
            </p:nvSpPr>
            <p:spPr>
              <a:xfrm>
                <a:off x="13910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</p:grpSp>
        <p:sp>
          <p:nvSpPr>
            <p:cNvPr id="227" name="Text Box 17"/>
            <p:cNvSpPr/>
            <p:nvPr/>
          </p:nvSpPr>
          <p:spPr>
            <a:xfrm>
              <a:off x="1217880" y="196848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ước1</a:t>
              </a:r>
              <a:endParaRPr b="0" lang="en-US" sz="20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77000" y="2590920"/>
              <a:ext cx="2600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Eras Demi ITC"/>
                </a:rPr>
                <a:t>.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u thập mẫu</a:t>
              </a:r>
              <a:endParaRPr b="0" lang="en-US" sz="3200" spc="-1" strike="noStrike">
                <a:solidFill>
                  <a:srgbClr val="000000"/>
                </a:solidFill>
                <a:latin typeface="DotumCh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Xác định YTCT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DotumChe"/>
              </a:endParaRPr>
            </a:p>
          </p:txBody>
        </p:sp>
      </p:grpSp>
      <p:grpSp>
        <p:nvGrpSpPr>
          <p:cNvPr id="229" name="Group 19"/>
          <p:cNvGrpSpPr/>
          <p:nvPr/>
        </p:nvGrpSpPr>
        <p:grpSpPr>
          <a:xfrm>
            <a:off x="3276720" y="1832040"/>
            <a:ext cx="2666160" cy="4034880"/>
            <a:chOff x="3276720" y="1832040"/>
            <a:chExt cx="2666160" cy="4034880"/>
          </a:xfrm>
        </p:grpSpPr>
        <p:sp>
          <p:nvSpPr>
            <p:cNvPr id="230" name="AutoShape 20"/>
            <p:cNvSpPr/>
            <p:nvPr/>
          </p:nvSpPr>
          <p:spPr>
            <a:xfrm>
              <a:off x="3276720" y="2139480"/>
              <a:ext cx="2662560" cy="2857320"/>
            </a:xfrm>
            <a:custGeom>
              <a:avLst/>
              <a:gdLst>
                <a:gd name="textAreaLeft" fmla="*/ 136440 w 2662560"/>
                <a:gd name="textAreaRight" fmla="*/ 2526120 w 2662560"/>
                <a:gd name="textAreaTop" fmla="*/ 136440 h 2857320"/>
                <a:gd name="textAreaBottom" fmla="*/ 2720880 h 2857320"/>
              </a:gdLst>
              <a:ahLst/>
              <a:rect l="textAreaLeft" t="textAreaTop" r="textAreaRight" b="textAreaBottom"/>
              <a:pathLst>
                <a:path w="21600" h="23180">
                  <a:moveTo>
                    <a:pt x="3782" y="0"/>
                  </a:moveTo>
                  <a:arcTo wR="3782" hR="3782" stAng="16200000" swAng="-5400000"/>
                  <a:lnTo>
                    <a:pt x="0" y="19398"/>
                  </a:lnTo>
                  <a:arcTo wR="3782" hR="3782" stAng="10800000" swAng="-5400000"/>
                  <a:lnTo>
                    <a:pt x="17818" y="2318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31" name="AutoShape 21"/>
            <p:cNvSpPr/>
            <p:nvPr/>
          </p:nvSpPr>
          <p:spPr>
            <a:xfrm>
              <a:off x="3317400" y="2147760"/>
              <a:ext cx="2583000" cy="2802960"/>
            </a:xfrm>
            <a:custGeom>
              <a:avLst/>
              <a:gdLst>
                <a:gd name="textAreaLeft" fmla="*/ 126000 w 2583000"/>
                <a:gd name="textAreaRight" fmla="*/ 2457000 w 2583000"/>
                <a:gd name="textAreaTop" fmla="*/ 126000 h 2802960"/>
                <a:gd name="textAreaBottom" fmla="*/ 2676960 h 2802960"/>
              </a:gdLst>
              <a:ahLst/>
              <a:rect l="textAreaLeft" t="textAreaTop" r="textAreaRight" b="textAreaBottom"/>
              <a:pathLst>
                <a:path w="21600" h="23439">
                  <a:moveTo>
                    <a:pt x="3600" y="0"/>
                  </a:moveTo>
                  <a:arcTo wR="3600" hR="3600" stAng="16200000" swAng="-5400000"/>
                  <a:lnTo>
                    <a:pt x="0" y="19839"/>
                  </a:lnTo>
                  <a:arcTo wR="3600" hR="3600" stAng="10800000" swAng="-5400000"/>
                  <a:lnTo>
                    <a:pt x="18000" y="234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32" name="AutoShape 22"/>
            <p:cNvSpPr/>
            <p:nvPr/>
          </p:nvSpPr>
          <p:spPr>
            <a:xfrm>
              <a:off x="3339000" y="4211280"/>
              <a:ext cx="2547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33" name="AutoShape 23"/>
            <p:cNvSpPr/>
            <p:nvPr/>
          </p:nvSpPr>
          <p:spPr>
            <a:xfrm>
              <a:off x="3339000" y="2169720"/>
              <a:ext cx="2547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34" name="Oval 24"/>
            <p:cNvSpPr/>
            <p:nvPr/>
          </p:nvSpPr>
          <p:spPr>
            <a:xfrm>
              <a:off x="4192920" y="1832040"/>
              <a:ext cx="79128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35" name="Oval 25"/>
            <p:cNvSpPr/>
            <p:nvPr/>
          </p:nvSpPr>
          <p:spPr>
            <a:xfrm>
              <a:off x="4200480" y="1836360"/>
              <a:ext cx="76572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36" name="Oval 26"/>
            <p:cNvSpPr/>
            <p:nvPr/>
          </p:nvSpPr>
          <p:spPr>
            <a:xfrm>
              <a:off x="4210560" y="1839600"/>
              <a:ext cx="74772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37" name="Oval 27"/>
            <p:cNvSpPr/>
            <p:nvPr/>
          </p:nvSpPr>
          <p:spPr>
            <a:xfrm>
              <a:off x="4218120" y="1846080"/>
              <a:ext cx="7110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38" name="Oval 28"/>
            <p:cNvSpPr/>
            <p:nvPr/>
          </p:nvSpPr>
          <p:spPr>
            <a:xfrm>
              <a:off x="4260960" y="1861920"/>
              <a:ext cx="6310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39" name="Text Box 29"/>
            <p:cNvSpPr/>
            <p:nvPr/>
          </p:nvSpPr>
          <p:spPr>
            <a:xfrm>
              <a:off x="4078440" y="1971360"/>
              <a:ext cx="1014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ước2</a:t>
              </a:r>
              <a:endParaRPr b="0" lang="en-US" sz="2000" spc="-1" strike="noStrike">
                <a:solidFill>
                  <a:srgbClr val="000000"/>
                </a:solidFill>
                <a:latin typeface="DotumCh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40" name="Text Box 30"/>
            <p:cNvSpPr/>
            <p:nvPr/>
          </p:nvSpPr>
          <p:spPr>
            <a:xfrm>
              <a:off x="3369960" y="2593800"/>
              <a:ext cx="2531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hân loại: </a:t>
              </a:r>
              <a:endParaRPr b="0" lang="en-US" sz="3200" spc="-1" strike="noStrike">
                <a:solidFill>
                  <a:srgbClr val="000000"/>
                </a:solidFill>
                <a:latin typeface="DotumChe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ấu trúc</a:t>
              </a:r>
              <a:endParaRPr b="0" lang="en-US" sz="3200" spc="-1" strike="noStrike">
                <a:solidFill>
                  <a:srgbClr val="000000"/>
                </a:solidFill>
                <a:latin typeface="DotumChe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ức năng</a:t>
              </a:r>
              <a:endParaRPr b="0" lang="en-US" sz="32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41" name="AutoShape 31"/>
            <p:cNvSpPr/>
            <p:nvPr/>
          </p:nvSpPr>
          <p:spPr>
            <a:xfrm>
              <a:off x="3279960" y="4997160"/>
              <a:ext cx="266292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42" name="AutoShape 32"/>
            <p:cNvSpPr/>
            <p:nvPr/>
          </p:nvSpPr>
          <p:spPr>
            <a:xfrm>
              <a:off x="3335040" y="5020920"/>
              <a:ext cx="2547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</p:grpSp>
      <p:grpSp>
        <p:nvGrpSpPr>
          <p:cNvPr id="243" name="Group 33"/>
          <p:cNvGrpSpPr/>
          <p:nvPr/>
        </p:nvGrpSpPr>
        <p:grpSpPr>
          <a:xfrm>
            <a:off x="6095880" y="1828800"/>
            <a:ext cx="2590560" cy="4035600"/>
            <a:chOff x="6095880" y="1828800"/>
            <a:chExt cx="2590560" cy="4035600"/>
          </a:xfrm>
        </p:grpSpPr>
        <p:sp>
          <p:nvSpPr>
            <p:cNvPr id="244" name="AutoShape 34"/>
            <p:cNvSpPr/>
            <p:nvPr/>
          </p:nvSpPr>
          <p:spPr>
            <a:xfrm>
              <a:off x="6103080" y="2136600"/>
              <a:ext cx="2583360" cy="2857680"/>
            </a:xfrm>
            <a:custGeom>
              <a:avLst/>
              <a:gdLst>
                <a:gd name="textAreaLeft" fmla="*/ 132480 w 2583360"/>
                <a:gd name="textAreaRight" fmla="*/ 2450880 w 2583360"/>
                <a:gd name="textAreaTop" fmla="*/ 132480 h 2857680"/>
                <a:gd name="textAreaBottom" fmla="*/ 2725200 h 2857680"/>
              </a:gdLst>
              <a:ahLst/>
              <a:rect l="textAreaLeft" t="textAreaTop" r="textAreaRight" b="textAreaBottom"/>
              <a:pathLst>
                <a:path w="21600" h="23893">
                  <a:moveTo>
                    <a:pt x="3782" y="0"/>
                  </a:moveTo>
                  <a:arcTo wR="3782" hR="3782" stAng="16200000" swAng="-5400000"/>
                  <a:lnTo>
                    <a:pt x="0" y="20111"/>
                  </a:lnTo>
                  <a:arcTo wR="3782" hR="3782" stAng="10800000" swAng="-5400000"/>
                  <a:lnTo>
                    <a:pt x="17818" y="2389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45" name="AutoShape 35"/>
            <p:cNvSpPr/>
            <p:nvPr/>
          </p:nvSpPr>
          <p:spPr>
            <a:xfrm>
              <a:off x="6143040" y="2144880"/>
              <a:ext cx="2505600" cy="2803320"/>
            </a:xfrm>
            <a:custGeom>
              <a:avLst/>
              <a:gdLst>
                <a:gd name="textAreaLeft" fmla="*/ 122040 w 2505600"/>
                <a:gd name="textAreaRight" fmla="*/ 2383560 w 2505600"/>
                <a:gd name="textAreaTop" fmla="*/ 122040 h 2803320"/>
                <a:gd name="textAreaBottom" fmla="*/ 2681280 h 2803320"/>
              </a:gdLst>
              <a:ahLst/>
              <a:rect l="textAreaLeft" t="textAreaTop" r="textAreaRight" b="textAreaBottom"/>
              <a:pathLst>
                <a:path w="21600" h="24166">
                  <a:moveTo>
                    <a:pt x="3600" y="0"/>
                  </a:moveTo>
                  <a:arcTo wR="3600" hR="3600" stAng="16200000" swAng="-5400000"/>
                  <a:lnTo>
                    <a:pt x="0" y="20566"/>
                  </a:lnTo>
                  <a:arcTo wR="3600" hR="3600" stAng="10800000" swAng="-5400000"/>
                  <a:lnTo>
                    <a:pt x="18000" y="24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46" name="AutoShape 36"/>
            <p:cNvSpPr/>
            <p:nvPr/>
          </p:nvSpPr>
          <p:spPr>
            <a:xfrm>
              <a:off x="6163560" y="4208400"/>
              <a:ext cx="24717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47" name="AutoShape 37"/>
            <p:cNvSpPr/>
            <p:nvPr/>
          </p:nvSpPr>
          <p:spPr>
            <a:xfrm>
              <a:off x="6163560" y="2166840"/>
              <a:ext cx="24717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grpSp>
          <p:nvGrpSpPr>
            <p:cNvPr id="248" name="Group 38"/>
            <p:cNvGrpSpPr/>
            <p:nvPr/>
          </p:nvGrpSpPr>
          <p:grpSpPr>
            <a:xfrm>
              <a:off x="6991920" y="1828800"/>
              <a:ext cx="767520" cy="642960"/>
              <a:chOff x="6991920" y="1828800"/>
              <a:chExt cx="767520" cy="642960"/>
            </a:xfrm>
          </p:grpSpPr>
          <p:sp>
            <p:nvSpPr>
              <p:cNvPr id="249" name="Oval 39"/>
              <p:cNvSpPr/>
              <p:nvPr/>
            </p:nvSpPr>
            <p:spPr>
              <a:xfrm>
                <a:off x="6991920" y="1828800"/>
                <a:ext cx="767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250" name="Oval 40"/>
              <p:cNvSpPr/>
              <p:nvPr/>
            </p:nvSpPr>
            <p:spPr>
              <a:xfrm>
                <a:off x="6999840" y="1833480"/>
                <a:ext cx="7423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251" name="Oval 41"/>
              <p:cNvSpPr/>
              <p:nvPr/>
            </p:nvSpPr>
            <p:spPr>
              <a:xfrm>
                <a:off x="7008840" y="1837440"/>
                <a:ext cx="72504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252" name="Oval 42"/>
              <p:cNvSpPr/>
              <p:nvPr/>
            </p:nvSpPr>
            <p:spPr>
              <a:xfrm>
                <a:off x="7017120" y="1843200"/>
                <a:ext cx="68940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  <p:sp>
            <p:nvSpPr>
              <p:cNvPr id="253" name="Oval 43"/>
              <p:cNvSpPr/>
              <p:nvPr/>
            </p:nvSpPr>
            <p:spPr>
              <a:xfrm>
                <a:off x="7057080" y="1858680"/>
                <a:ext cx="612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otumChe"/>
                </a:endParaRPr>
              </a:p>
            </p:txBody>
          </p:sp>
        </p:grpSp>
        <p:sp>
          <p:nvSpPr>
            <p:cNvPr id="254" name="Text Box 44"/>
            <p:cNvSpPr/>
            <p:nvPr/>
          </p:nvSpPr>
          <p:spPr>
            <a:xfrm>
              <a:off x="6865920" y="196848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ước3</a:t>
              </a:r>
              <a:endParaRPr b="0" lang="en-US" sz="20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55" name="Text Box 45"/>
            <p:cNvSpPr/>
            <p:nvPr/>
          </p:nvSpPr>
          <p:spPr>
            <a:xfrm>
              <a:off x="6194160" y="2590920"/>
              <a:ext cx="24562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hân tích:</a:t>
              </a:r>
              <a:endParaRPr b="0" lang="en-US" sz="3200" spc="-1" strike="noStrike">
                <a:solidFill>
                  <a:srgbClr val="000000"/>
                </a:solidFill>
                <a:latin typeface="DotumChe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ấu trúc</a:t>
              </a:r>
              <a:endParaRPr b="0" lang="en-US" sz="3200" spc="-1" strike="noStrike">
                <a:solidFill>
                  <a:srgbClr val="000000"/>
                </a:solidFill>
                <a:latin typeface="DotumChe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ức năng</a:t>
              </a:r>
              <a:endParaRPr b="0" lang="en-US" sz="3200" spc="-1" strike="noStrike">
                <a:solidFill>
                  <a:srgbClr val="000000"/>
                </a:solidFill>
                <a:latin typeface="DotumChe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56" name="AutoShape 46"/>
            <p:cNvSpPr/>
            <p:nvPr/>
          </p:nvSpPr>
          <p:spPr>
            <a:xfrm>
              <a:off x="6095880" y="4994280"/>
              <a:ext cx="25830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  <p:sp>
          <p:nvSpPr>
            <p:cNvPr id="257" name="AutoShape 47"/>
            <p:cNvSpPr/>
            <p:nvPr/>
          </p:nvSpPr>
          <p:spPr>
            <a:xfrm>
              <a:off x="6148440" y="5018040"/>
              <a:ext cx="247104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otumCh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Eras Demi ITC"/>
              </a:rPr>
              <a:t>Chương 4: </a:t>
            </a:r>
            <a:r>
              <a:rPr b="1" lang="en-US" sz="3200" spc="-1" strike="noStrike">
                <a:solidFill>
                  <a:srgbClr val="00007d"/>
                </a:solidFill>
                <a:latin typeface="Eras Demi ITC"/>
              </a:rPr>
              <a:t>KẾT QUẢ NGHIÊN CỨ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2971800" y="4419720"/>
            <a:ext cx="5791320" cy="1981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2895480" y="5029200"/>
            <a:ext cx="25884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380880" y="3657600"/>
            <a:ext cx="2590920" cy="762120"/>
          </a:xfrm>
          <a:prstGeom prst="roundRect">
            <a:avLst>
              <a:gd name="adj" fmla="val 4690"/>
            </a:avLst>
          </a:prstGeom>
          <a:noFill/>
          <a:ln w="572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Kết quả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2971800" y="1905120"/>
            <a:ext cx="5791320" cy="205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2895480" y="2819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2666520" y="289548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2666880" y="289548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2666880" y="441972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2666880" y="510552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3124080" y="4495680"/>
            <a:ext cx="5791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Chức năng ngữ nghĩa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  <a:p>
            <a:pPr lvl="3" marL="137160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7d"/>
                </a:solidFill>
                <a:latin typeface="Arial"/>
                <a:ea typeface="Arial"/>
              </a:rPr>
              <a:t>Liên kết đoạn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  <a:p>
            <a:pPr lvl="3" marL="137160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7d"/>
                </a:solidFill>
                <a:latin typeface="Arial"/>
                <a:ea typeface="Arial"/>
              </a:rPr>
              <a:t>Liên kết câu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70" name="Text Box 14"/>
          <p:cNvSpPr/>
          <p:nvPr/>
        </p:nvSpPr>
        <p:spPr>
          <a:xfrm flipV="1" rot="10800000">
            <a:off x="3198600" y="2545920"/>
            <a:ext cx="53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Đặc điểm cấu trúc</a:t>
            </a:r>
            <a:r>
              <a:rPr b="0" lang="vi-VN" sz="32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5244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ảng 4.1 Đặc điểm cấu trúc của YTCT trong bài giả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2"/>
          <p:cNvSpPr/>
          <p:nvPr/>
        </p:nvSpPr>
        <p:spPr>
          <a:xfrm>
            <a:off x="2228760" y="51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73" name="Line 113"/>
          <p:cNvSpPr/>
          <p:nvPr/>
        </p:nvSpPr>
        <p:spPr>
          <a:xfrm>
            <a:off x="2228760" y="809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52280" y="843120"/>
          <a:ext cx="8915400" cy="6167160"/>
        </p:xfrm>
        <a:graphic>
          <a:graphicData uri="http://schemas.openxmlformats.org/drawingml/2006/table">
            <a:tbl>
              <a:tblPr/>
              <a:tblGrid>
                <a:gridCol w="831960"/>
                <a:gridCol w="233280"/>
                <a:gridCol w="1227240"/>
                <a:gridCol w="1547640"/>
                <a:gridCol w="1425600"/>
                <a:gridCol w="3649680"/>
              </a:tblGrid>
              <a:tr h="518040"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Preposition phr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 + Noun/ 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ually in the mid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addition, for instance, on the other hand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 rowSpan="3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r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osition phr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 + 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ually in the mid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the old time, in the 1990s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Infinitive phr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+ in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ually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ultim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recap, to review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un phr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(most)+(adj.)+ no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+adj + est.) + no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times init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times in the mid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114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most important, The first common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114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second largest group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u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/like + I /We + verb of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Y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+ you + verb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NOW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times in the midd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ually ultim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we talked about last time, Like I was saying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you know, As you might expect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800">
                <a:tc gridSpan="2" rowSpan="3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te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rog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-ques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/no ques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ually init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times in the midd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times ultim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is the truth about light wave theory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you know the history of it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era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’s + bare infini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 sb do st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ually init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ually in the midd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’s go over them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 me put that another way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lar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+ verb phrase of voli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ually init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ay I want to consider natural alternatives to aspirin relief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ảng 4.2 Chức năng liên kết đoạn của YTCT trong bài giả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28600" y="914400"/>
          <a:ext cx="8610480" cy="5638680"/>
        </p:xfrm>
        <a:graphic>
          <a:graphicData uri="http://schemas.openxmlformats.org/drawingml/2006/table">
            <a:tbl>
              <a:tblPr/>
              <a:tblGrid>
                <a:gridCol w="1479600"/>
                <a:gridCol w="2419200"/>
                <a:gridCol w="2252880"/>
                <a:gridCol w="2458800"/>
              </a:tblGrid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tion in le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forms of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g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t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s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h-question, yes/no questio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tracting learners’ atten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 topi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 did anyone think of skin cancer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erative sente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et’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ing narrowed or specific topics and main ide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 let’s start by looking at some of the major characteristics of cultur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larative sente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 would like, I am going to, I will…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would like to give you an introduction to linguistic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raph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al of addi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ing inform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over, furthermore, next, in addi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al of proce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 seque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ing ideas in order or seque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, second, final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lu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rase (to infinitive phras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o + infinitiv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rizing main ide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recap, to review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erative sente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et’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’s review what we have covered today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473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u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473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s/like + I /We + verb of SAY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473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+ you + verb of KNOWING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alling something mentioned previous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we talked about last time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you already know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ảng 4.3 Chức năng liên kết câu của YTCT trong bài giả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28600" y="838080"/>
          <a:ext cx="8686800" cy="5791320"/>
        </p:xfrm>
        <a:graphic>
          <a:graphicData uri="http://schemas.openxmlformats.org/drawingml/2006/table">
            <a:tbl>
              <a:tblPr/>
              <a:tblGrid>
                <a:gridCol w="1366920"/>
                <a:gridCol w="1306440"/>
                <a:gridCol w="2171520"/>
                <a:gridCol w="38419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g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lust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’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 explanatory inform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’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ook at the cycle of breathing to see how this wor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a point or the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t were swimming next to your boat, you’d definitely notice it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an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t 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a point or the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 reason is socioeconomic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at is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 person’s  social and economic lev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mean, this means, that m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 explanatory inform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just the last 30 years, the water level has dropped 25 meters.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t mean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here is 25 less water in the Dead Sea today than there was 30 years ag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has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fa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 a fa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ression is an illness which affects many people in the United State.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 fact,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out thirty million people in the Us have experienced major depression at sometime in their liv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 facts beyond expect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, how successful do you think these victory garden campaigns were? Can you image turning your backyard into a vegetable garden? No? Not many of you, huh? No green thumbs in this class?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ly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ictory gardens worked really well in the U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mem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 some important inform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’ll finish today with some information about Jupiter’s rings. </a:t>
                      </a: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emember</a:t>
                      </a:r>
                      <a:r>
                        <a:rPr b="0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that I mentioned them earlier?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otumCh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Tahoma"/>
                <a:hlinkClick r:id="rId1" action="ppaction://hlinksldjump"/>
              </a:rPr>
              <a:t>Ví dụ tham khảo_x000b_</a:t>
            </a:r>
            <a:br>
              <a:rPr sz="3600"/>
            </a:br>
            <a:r>
              <a:rPr b="0" i="1" lang="en-US" sz="3600" spc="-1" strike="noStrike">
                <a:solidFill>
                  <a:srgbClr val="00007d"/>
                </a:solidFill>
                <a:latin typeface="Arial"/>
              </a:rPr>
              <a:t>chức năng chỉ báo quá trình, chuỗi của YTCT trong phần thân bài giảng</a:t>
            </a:r>
            <a:r>
              <a:rPr b="0" lang="vi-V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layer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Eras Demi ITC"/>
              </a:rPr>
              <a:t>BỐ CỤ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2362320" y="4854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11" name="Rectangle 4"/>
          <p:cNvSpPr/>
          <p:nvPr/>
        </p:nvSpPr>
        <p:spPr>
          <a:xfrm rot="3418800">
            <a:off x="2077920" y="4277880"/>
            <a:ext cx="479160" cy="52056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5e5e6a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135520" y="432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14" name="Rectangle 7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819520" y="1828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Giới thiệu</a:t>
            </a:r>
            <a:endParaRPr b="0" lang="en-US" sz="2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362320" y="31780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18" name="Rectangle 11"/>
          <p:cNvSpPr/>
          <p:nvPr/>
        </p:nvSpPr>
        <p:spPr>
          <a:xfrm rot="3418800">
            <a:off x="2077560" y="2602080"/>
            <a:ext cx="479520" cy="52056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47475e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2135520" y="26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2363760" y="4014720"/>
            <a:ext cx="479916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21" name="Rectangle 14"/>
          <p:cNvSpPr/>
          <p:nvPr/>
        </p:nvSpPr>
        <p:spPr>
          <a:xfrm rot="3418800">
            <a:off x="2077560" y="3440160"/>
            <a:ext cx="479520" cy="52056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135520" y="34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2362320" y="5715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24" name="Rectangle 17"/>
          <p:cNvSpPr/>
          <p:nvPr/>
        </p:nvSpPr>
        <p:spPr>
          <a:xfrm rot="3418800">
            <a:off x="2077920" y="5138280"/>
            <a:ext cx="479160" cy="52056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4700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213552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2895480" y="27129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Tổng quan đề tài</a:t>
            </a:r>
            <a:endParaRPr b="0" lang="en-US" sz="2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2590920" y="355284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hương pháp nghiên cứu</a:t>
            </a:r>
            <a:endParaRPr b="0" lang="en-US" sz="2800" spc="-1" strike="noStrike">
              <a:solidFill>
                <a:srgbClr val="000000"/>
              </a:solidFill>
              <a:latin typeface="DotumCh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2819520" y="4419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Kết quả nghiên cứu</a:t>
            </a:r>
            <a:endParaRPr b="0" lang="en-US" sz="2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819520" y="52578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Kết luận</a:t>
            </a:r>
            <a:endParaRPr b="0" lang="en-US" sz="2800" spc="-1" strike="noStrike">
              <a:solidFill>
                <a:srgbClr val="000000"/>
              </a:solidFill>
              <a:latin typeface="DotumCh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3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Eras Demi ITC"/>
              </a:rPr>
              <a:t>KẾT LUẬN</a:t>
            </a:r>
            <a:r>
              <a:rPr b="1" lang="en-US" sz="4400" spc="-1" strike="noStrike">
                <a:solidFill>
                  <a:srgbClr val="00007d"/>
                </a:solidFill>
                <a:latin typeface="Eras Demi ITC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Eras Demi ITC"/>
              </a:rPr>
              <a:t>&amp; KHUYẾN NGH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971800" y="4419720"/>
            <a:ext cx="57913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2895480" y="4724280"/>
            <a:ext cx="25884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3048120" y="5638680"/>
            <a:ext cx="571500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2971800" y="5943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304920" y="3505320"/>
            <a:ext cx="2590560" cy="1143000"/>
          </a:xfrm>
          <a:prstGeom prst="roundRect">
            <a:avLst>
              <a:gd name="adj" fmla="val 4690"/>
            </a:avLst>
          </a:prstGeom>
          <a:noFill/>
          <a:ln w="572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2971800" y="1752480"/>
            <a:ext cx="57913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2895480" y="2057400"/>
            <a:ext cx="25884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2971800" y="2971800"/>
            <a:ext cx="571500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289548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92" name="Line 13"/>
          <p:cNvSpPr/>
          <p:nvPr/>
        </p:nvSpPr>
        <p:spPr>
          <a:xfrm flipH="1">
            <a:off x="2666520" y="213372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2666880" y="2133720"/>
            <a:ext cx="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666880" y="4648320"/>
            <a:ext cx="0" cy="1447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95" name="Line 16"/>
          <p:cNvSpPr/>
          <p:nvPr/>
        </p:nvSpPr>
        <p:spPr>
          <a:xfrm>
            <a:off x="2666880" y="6095880"/>
            <a:ext cx="304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96" name="Line 17"/>
          <p:cNvSpPr/>
          <p:nvPr/>
        </p:nvSpPr>
        <p:spPr>
          <a:xfrm>
            <a:off x="2666880" y="335268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97" name="Line 18"/>
          <p:cNvSpPr/>
          <p:nvPr/>
        </p:nvSpPr>
        <p:spPr>
          <a:xfrm>
            <a:off x="2666880" y="480060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3276720" y="18288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Kết luận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3276720" y="44197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Hạn chế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3276720" y="57150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Khuyến nghị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22860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7d"/>
                </a:solidFill>
                <a:latin typeface="Arial"/>
              </a:rPr>
              <a:t>KẾT LUẬN &amp;KHUYẾN NGHỊ</a:t>
            </a:r>
            <a:endParaRPr b="0" lang="en-US" sz="24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3276720" y="30481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Giải pháp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Cấu trúc YTCT đa d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Chức năng YTCT đa dạng tập trung vào 3 nhóm liên kết chí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Dùng YTCT để đoán cấu trúc &amp; nội 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YTCT quan trọng trong nghe và hiểu bài giảng tiếng 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Eras Demi ITC"/>
              </a:rPr>
              <a:t>KẾT LU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Khó khăn của sinh viên trong việc hiểu bài giảng bằng tiếng Anh trong TOEFL i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Khó khăn của sinh viên trong việc trả lời câu hỏi của bài giả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Eras Demi ITC"/>
              </a:rPr>
              <a:t>ĐỀ XUẤT GIẢI PHÁ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Với sinh viên: dùng YTCT như phương tiện để hiểu bài giảng, trả lời câu hỏ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Với giáo viên: thiết kế các </a:t>
            </a:r>
            <a:r>
              <a:rPr b="0" lang="vi-VN" sz="32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bài tập </a:t>
            </a: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để giúp sinh viên nâng cao khả năng hiểu và sử dụng YT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1814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Eras Demi ITC"/>
              </a:rPr>
              <a:t>BÀI TẬP KHỚP CHỨC NĂNG VÀ CÁC HÌNH THỨC</a:t>
            </a:r>
            <a:br>
              <a:rPr sz="2400"/>
            </a:br>
            <a:r>
              <a:rPr b="1" lang="vi-VN" sz="2400" spc="-1" strike="noStrike">
                <a:solidFill>
                  <a:srgbClr val="000000"/>
                </a:solidFill>
                <a:latin typeface="Eras Demi ITC"/>
              </a:rPr>
              <a:t> CÚ PHÁP CỦA YT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Eras Demi ITC"/>
              </a:rPr>
              <a:t>BÀI TẬP ĐIỀN KHUYẾT CÁC HÌNH THỨC CÚ PHÁP CỦA YTCT VÀO VỊ TRÍ TƯƠNG TH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10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Eras Demi ITC"/>
              </a:rPr>
              <a:t>NHỮNG HẠN CHẾ &amp; KHUYẾN NGH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200" spc="-1" strike="noStrike" u="sng">
                <a:solidFill>
                  <a:srgbClr val="00007d"/>
                </a:solidFill>
                <a:uFillTx/>
                <a:latin typeface="Arial"/>
              </a:rPr>
              <a:t>Hạn ch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Nguồn dữ liệ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Chiều sâu phân t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200" spc="-1" strike="noStrike" u="sng">
                <a:solidFill>
                  <a:srgbClr val="00007d"/>
                </a:solidFill>
                <a:uFillTx/>
                <a:latin typeface="Arial"/>
              </a:rPr>
              <a:t>Khuyến ngh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Tần số sử dụng và hiệu quả của YTCT trong các bài giảng bằng tiếng 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Các phương tiện ngôn ngữ sử dụng trong việc tổ chức các bài giảng trong tiếng 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800" spc="-1" strike="noStrike">
                <a:solidFill>
                  <a:srgbClr val="333399"/>
                </a:solidFill>
                <a:latin typeface="Copperplate Gothic Bold"/>
              </a:rPr>
              <a:t>XIN CHÂN THÀNH </a:t>
            </a:r>
            <a:br>
              <a:rPr sz="4800"/>
            </a:br>
            <a:r>
              <a:rPr b="1" lang="vi-VN" sz="4800" spc="-1" strike="noStrike">
                <a:solidFill>
                  <a:srgbClr val="333399"/>
                </a:solidFill>
                <a:latin typeface="Copperplate Gothic Bold"/>
              </a:rPr>
              <a:t>CẢM 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52480" y="1904760"/>
            <a:ext cx="601992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ỬI BÁO CÁO PPT VỀ ĐỊA CHỈ</a:t>
            </a: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quangnguyen1986@gmail.com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el: 09351208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otumChe"/>
              </a:rPr>
              <a:t>GỬI BÁO CÁO PPT VỀ ĐỊA CHỈ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DotumChe"/>
              </a:rPr>
              <a:t>quangnguyen1986@gmail.com</a:t>
            </a: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7"/>
          <p:cNvSpPr/>
          <p:nvPr/>
        </p:nvSpPr>
        <p:spPr>
          <a:xfrm>
            <a:off x="2971800" y="2286000"/>
            <a:ext cx="3808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2971800" y="5029200"/>
            <a:ext cx="3808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2971800" y="3200400"/>
            <a:ext cx="30492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2971800" y="4114800"/>
            <a:ext cx="4572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352680" y="2057400"/>
            <a:ext cx="502920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581280" y="20574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ý do chọn đề tài</a:t>
            </a:r>
            <a:endParaRPr b="0" lang="en-US" sz="2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3276720" y="297180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3505320" y="2971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Mục đích&amp; mục tiêu n/cứu</a:t>
            </a:r>
            <a:endParaRPr b="0" lang="en-US" sz="2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38" name="Oval 18"/>
          <p:cNvSpPr/>
          <p:nvPr/>
        </p:nvSpPr>
        <p:spPr>
          <a:xfrm>
            <a:off x="3276720" y="2209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39" name="Oval 20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9999cc"/>
              </a:gs>
              <a:gs pos="100000">
                <a:srgbClr val="66668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40" name="AutoShape 21"/>
          <p:cNvSpPr/>
          <p:nvPr/>
        </p:nvSpPr>
        <p:spPr>
          <a:xfrm>
            <a:off x="3276720" y="388620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581280" y="3886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Câu hỏi nghiên cứu</a:t>
            </a:r>
            <a:endParaRPr b="0" lang="en-US" sz="2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7672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43" name="AutoShape 24"/>
          <p:cNvSpPr/>
          <p:nvPr/>
        </p:nvSpPr>
        <p:spPr>
          <a:xfrm>
            <a:off x="3276720" y="487692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3581280" y="491796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hạm vi nghiên cứu</a:t>
            </a:r>
            <a:endParaRPr b="0" lang="en-US" sz="2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45" name="Oval 26"/>
          <p:cNvSpPr/>
          <p:nvPr/>
        </p:nvSpPr>
        <p:spPr>
          <a:xfrm>
            <a:off x="3276720" y="497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080" y="3287160"/>
            <a:ext cx="2874600" cy="740880"/>
          </a:xfrm>
          <a:prstGeom prst="rect">
            <a:avLst/>
          </a:prstGeom>
          <a:noFill/>
          <a:ln w="57240">
            <a:solidFill>
              <a:srgbClr val="9999cc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7d"/>
                </a:solidFill>
                <a:latin typeface="Arial"/>
              </a:rPr>
              <a:t>Giới thiệ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2971800" y="2286000"/>
            <a:ext cx="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Eras Demi ITC"/>
              </a:rPr>
              <a:t>LÝ DO CHỌN ĐỀ T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Tầm quan trọng của yếu tố chuyển tiếp (YTCT) trong tiếng 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ự cần thiết của YTCT trong bài giảng bằng tiếng 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Những khó khăn của sinh viên trong việc theo dõi bài giảng bằng tiếng Anh của tài liệu TOEFL i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Eras Demi ITC"/>
              </a:rPr>
              <a:t>MỤC ĐÍCH &amp; MỤC TIÊU NGHIÊN CỨ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00007d"/>
                </a:solidFill>
                <a:uFillTx/>
                <a:latin typeface="Arial"/>
              </a:rPr>
              <a:t>Mục đích:</a:t>
            </a: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 khảo sát các chức năng và cấu trúc của các YTCT trong bài giảng tiếng Anh trong TOEFL iBT nhằ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Cải thiện &amp; nâng cao khả năng hiểu và sử dụng YTCT của sinh viê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Giúp sinh viên nắm bắt kết cấu và theo kịp bài giảng tiếng Anh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00007d"/>
                </a:solidFill>
                <a:uFillTx/>
                <a:latin typeface="Arial"/>
              </a:rPr>
              <a:t>Mục tiê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Khảo sát</a:t>
            </a: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 đặc điểm cấu trúc và chức năng ngữ nghĩa của YTCT trong bài giảng trong TOEFL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i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Đưa ra đề xuất &amp; gợi 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Eras Demi ITC"/>
              </a:rPr>
              <a:t>CÂU HỎI NGHIÊN CỨ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Các hình thức hiện thực về cú pháp của YT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Các chức năng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ngôn bản </a:t>
            </a: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của YT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Các giải pháp nâng cao khả năng hiểu và sử dụng YT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Eras Demi ITC"/>
              </a:rPr>
              <a:t>PHẠM VI NGHIÊN CỨ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HINH DEV"/>
          <p:cNvPicPr/>
          <p:nvPr/>
        </p:nvPicPr>
        <p:blipFill>
          <a:blip r:embed="rId1"/>
          <a:stretch/>
        </p:blipFill>
        <p:spPr>
          <a:xfrm>
            <a:off x="304920" y="1981080"/>
            <a:ext cx="2842920" cy="3570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5638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7d"/>
                </a:solidFill>
                <a:uFillTx/>
                <a:latin typeface="Eras Demi ITC"/>
              </a:rPr>
              <a:t>Ghi chú: </a:t>
            </a: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trong phạm vi này, nghiên cứu chỉ tập trung vào đặc điểm cấu trúc và chức năng ngữ nghĩa chưa được đi sâu vào nghiên cứu trước đâ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HINH MAS"/>
          <p:cNvPicPr/>
          <p:nvPr/>
        </p:nvPicPr>
        <p:blipFill>
          <a:blip r:embed="rId2"/>
          <a:stretch/>
        </p:blipFill>
        <p:spPr>
          <a:xfrm>
            <a:off x="6019920" y="1981080"/>
            <a:ext cx="267804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Eras Demi ITC"/>
              </a:rPr>
              <a:t>TỔNG QUAN ĐỀ T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16800" y="3441240"/>
            <a:ext cx="2490120" cy="889920"/>
          </a:xfrm>
          <a:prstGeom prst="rect">
            <a:avLst/>
          </a:prstGeom>
          <a:noFill/>
          <a:ln w="57240">
            <a:solidFill>
              <a:srgbClr val="9999cc"/>
            </a:solidFill>
            <a:round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7d"/>
                </a:solidFill>
                <a:latin typeface="Arial"/>
              </a:rPr>
              <a:t>Tổng q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7d"/>
                </a:solidFill>
                <a:latin typeface="Arial"/>
              </a:rPr>
              <a:t>đề t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3124080" y="2743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3124080" y="4724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3429000" y="2438280"/>
            <a:ext cx="5486400" cy="838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3429000" y="4495680"/>
            <a:ext cx="548640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3657600" y="2590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Tổng quan</a:t>
            </a: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 nghiên cứu</a:t>
            </a:r>
            <a:r>
              <a:rPr b="0" lang="vi-VN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3581280" y="46483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7d"/>
                </a:solidFill>
                <a:latin typeface="Arial"/>
              </a:rPr>
              <a:t>Cơ sở lý thuyết</a:t>
            </a:r>
            <a:endParaRPr b="0" lang="en-US" sz="32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69" name="Line 15"/>
          <p:cNvSpPr/>
          <p:nvPr/>
        </p:nvSpPr>
        <p:spPr>
          <a:xfrm flipH="1">
            <a:off x="2819520" y="2895480"/>
            <a:ext cx="30456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  <p:sp>
        <p:nvSpPr>
          <p:cNvPr id="170" name="Line 17"/>
          <p:cNvSpPr/>
          <p:nvPr/>
        </p:nvSpPr>
        <p:spPr>
          <a:xfrm flipH="1" flipV="1">
            <a:off x="2819520" y="4343400"/>
            <a:ext cx="30456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DotumCh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47:26Z</dcterms:created>
  <dc:creator>vi</dc:creator>
  <dc:description/>
  <dc:language>en-US</dc:language>
  <cp:lastModifiedBy>Windows User</cp:lastModifiedBy>
  <dcterms:modified xsi:type="dcterms:W3CDTF">2014-05-27T08:47:0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